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BE3-551B-4D5E-A0EE-317C30FF49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6FE-35A5-4A84-A7B6-D2EBEDCE2A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A0E-5D99-4982-B069-D259D1CE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4E3-C7EE-406D-B18E-2DFEAC1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E27-DD78-4176-BF05-1AF6C92D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CF7-4582-4310-8C99-73F2B584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44E9-0FC4-49A9-8BEB-8D90E124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B19-810B-4C81-AFF8-EE34B1F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3624-FB0B-4750-BA7D-8C7347B6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42A4-CE6A-4F76-B817-9DE1A70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0F0-EE9D-4097-A378-9185D427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388E-4FAE-4B89-82C0-6C0CA3D6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E2DD-BC9F-4975-8DCC-4B17E40B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610-781B-44C3-9F1A-056CE5B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9FE0-8527-4090-BBB5-50A98D0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1C0-E6B9-4CAD-8AFF-6EB0B0F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F6E2-4033-4130-9BEE-A6B4590A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2C0-F2A2-49FC-938D-7E02F948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EAE7-9D61-4E86-B90E-C08C214F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5ED-A55D-4724-84A0-E9E8EA9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25F-9050-455A-A09A-0179D55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21E-E82A-4276-919D-735FFF8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6E8-7143-4050-A93A-CAE676AD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FC7-E340-4910-962F-B32B968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FA5-809C-4AEE-B83B-BBE009E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9F1-406F-492A-A8A9-C89A96B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22b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66FB-9F82-40DF-8114-DEDB1F825C80}" type="slidenum"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ppfahrt_logo_medium"/>
          <p:cNvPicPr/>
          <p:nvPr/>
        </p:nvPicPr>
        <p:blipFill>
          <a:blip r:embed="rId2"/>
          <a:srcRect l="0" t="14102" r="4228" b="4157"/>
          <a:stretch/>
        </p:blipFill>
        <p:spPr>
          <a:xfrm>
            <a:off x="7128000" y="71280"/>
            <a:ext cx="1908000" cy="162900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19080">
            <a:solidFill>
              <a:srgbClr val="8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appfahrt_logo_medium"/>
          <p:cNvPicPr/>
          <p:nvPr/>
        </p:nvPicPr>
        <p:blipFill>
          <a:blip r:embed="rId2"/>
          <a:srcRect l="0" t="14102" r="4228" b="4157"/>
          <a:stretch/>
        </p:blipFill>
        <p:spPr>
          <a:xfrm>
            <a:off x="3087720" y="260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22b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05E2-D420-427F-B7E0-4F5EBE6E52EE}" type="slidenum"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Vorstellung erster Ergebniss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ortgeschrittene Softwaretechnologie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Dortmund, 09. April 2011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058-7422-48B3-A182-45F4340DFF99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Nicht-funktionale Anforderung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zuverlässig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grafisch ansprechend sein und intuitiv bedienbar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in wenigen Sekunden Ergebnisse zurückliefer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sollte möglichst wenig Ressourcen verbrauchen, da sie auf mobilen Endgeräten verwendet werden sol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sollte so entwickelt werden, dass sie leicht anpassbar, erweiterbar, wartbar und Funktionalitäten leicht ausgetauscht werd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0"/>
          <p:cNvSpPr/>
          <p:nvPr/>
        </p:nvSpPr>
        <p:spPr>
          <a:xfrm>
            <a:off x="539640" y="1363680"/>
            <a:ext cx="75805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Z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Projektidee zu konkretisie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Umfang der Lösung einzugrenz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ür die Erstellung der Use Case Diagramme wurde das eclipse Plugin UML2-Tools verwend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wendungsfälle wurden in 2 Pakete geclustert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Fahrt planen und durchfüh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User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wendungsfälle wurden in der Anwendungsfallschablone nach Cockburn beschrie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3708360" y="4365720"/>
          <a:ext cx="6764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365720"/>
                    <a:ext cx="676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4716360" y="4005360"/>
          <a:ext cx="5731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05360"/>
                    <a:ext cx="573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Umzusetzende Systemanwendungsfäll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rchitektur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OpenStreetMap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Mave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Java E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Hibernat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CXF Webservices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4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05A-FEA5-4CBC-8717-A1F9C8C1808A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rchitektur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5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F2B7-76E2-4FC7-AEF2-C19BAE4F9989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nhaltsplatzhalter 3" descr=""/>
          <p:cNvPicPr/>
          <p:nvPr/>
        </p:nvPicPr>
        <p:blipFill>
          <a:blip r:embed="rId1"/>
          <a:stretch/>
        </p:blipFill>
        <p:spPr>
          <a:xfrm>
            <a:off x="1133640" y="1103400"/>
            <a:ext cx="663228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Datenbankentwurf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5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CCF6-3BB6-4293-AF92-3E61ED725983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nhaltsplatzhalter 6" descr=""/>
          <p:cNvPicPr/>
          <p:nvPr/>
        </p:nvPicPr>
        <p:blipFill>
          <a:blip r:embed="rId1"/>
          <a:stretch/>
        </p:blipFill>
        <p:spPr>
          <a:xfrm>
            <a:off x="1262160" y="1103400"/>
            <a:ext cx="6218280" cy="47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Komponentendiagramm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6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F09-84CD-422C-998C-2E8DE23F5FE1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adimitro\My Documents\Studium\Fortgeschrittene SW\komponentendiagramm2.png"/>
          <p:cNvPicPr/>
          <p:nvPr/>
        </p:nvPicPr>
        <p:blipFill>
          <a:blip r:embed="rId1"/>
          <a:stretch/>
        </p:blipFill>
        <p:spPr>
          <a:xfrm>
            <a:off x="378000" y="1822320"/>
            <a:ext cx="825336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Screenshot - Programmstar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6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53D-873A-44D3-A7D0-A6B9B9A3EC01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822400" y="1103400"/>
            <a:ext cx="3029040" cy="473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Screenshot - Kontakdat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1F2-967E-47C6-853F-9D18B7B09235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0640" y="1176480"/>
            <a:ext cx="3058920" cy="4870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913200" y="1176480"/>
            <a:ext cx="306072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314172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Vielen Dank für Ihre Aufmerksamkeit</a:t>
            </a:r>
            <a:endParaRPr b="0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7DC-F92F-4241-95B5-7C6878C3CD03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adimitro\Desktop\icon-community_management-b.jpg"/>
          <p:cNvPicPr/>
          <p:nvPr/>
        </p:nvPicPr>
        <p:blipFill>
          <a:blip r:embed="rId1"/>
          <a:stretch/>
        </p:blipFill>
        <p:spPr>
          <a:xfrm>
            <a:off x="3635280" y="285264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4DB-5248-4376-9284-C678A3A5D582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deensammlung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Zielgrupp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Machbarkeitsstudi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rojektinitiierung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rojektpla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unktionale Anforderun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Nicht-funktionale Anforderun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Use-Case Diagramm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rchitekturentwurf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atenbankentwurf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creenshot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mponentendiagramm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Ideensamml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dee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Brainstorming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Mindmap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nalyse des Markte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Ähnliche Produkt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Bedarf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Konkurrenz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uswahl möglicher Realisierungstechnologi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rfassung von Risik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1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75D-719C-4204-B17C-3FB295241777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Ideensamml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7A5E-FEA9-42FE-B46F-1D065560E21E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58760" y="2114640"/>
            <a:ext cx="8869320" cy="311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1C0-67B4-47BE-999D-F138A38251AD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Zielgrupp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lieber mit dem Auto als mit                      der Bahn unterwegs sind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lexibilitä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kein Fahrzeug besitzen aber unabhängig von Bus und Bahn sein wollen oder sein müss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lexibilität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mobil sein wollen aber dabei Geld sparen woll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sten sparen, sparsamer Umgang mit Ressourc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nicht gerne alleine unterwegs sind und andere Leute kennen lernen woll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ozialer Faktor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Machbarkeitsstudi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1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741-0961-42DD-8710-585F510BDAF4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3780000" y="2781360"/>
          <a:ext cx="174456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781360"/>
                    <a:ext cx="17445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Projektinitiier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uswahl Vorgehensmodell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RUP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rstellung eines Projektplan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nfrastruktur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Wiki für Artefakte (Lasten-, Pflichtenheft, etc.)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SV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UML 2.0 (Eclipse AddOn)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8BB0-D5F5-4A46-8E40-DE578C9583AE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Projektpla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6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2FC-041C-4047-9900-392E7F6D9C68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1844640"/>
          <a:ext cx="5904000" cy="3529080"/>
        </p:xfrm>
        <a:graphic>
          <a:graphicData uri="http://schemas.openxmlformats.org/drawingml/2006/table">
            <a:tbl>
              <a:tblPr/>
              <a:tblGrid>
                <a:gridCol w="3809880"/>
                <a:gridCol w="2094120"/>
              </a:tblGrid>
              <a:tr h="325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63636"/>
                          </a:solidFill>
                          <a:latin typeface="Calibri"/>
                        </a:rPr>
                        <a:t>Vorgangs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dfe3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63636"/>
                          </a:solidFill>
                          <a:latin typeface="Calibri"/>
                        </a:rPr>
                        <a:t>Fertig ste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dfe3e8"/>
                    </a:solidFill>
                  </a:tcPr>
                </a:tc>
              </a:tr>
              <a:tr h="380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Fah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6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initi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4.0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forderungsermittl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spezifiz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hitektur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b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in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tätssich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6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D74B-EBD8-4CB6-99CE-1D9ECBA6CC52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Funktionale Anforderung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nmeldung soll erforderlich sein und über                     die App selbst oder über einen vorhandenen       Facebook-Account erfol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s sollen spontan Fahrgemeinschaften gebildet werd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Eingabe von Start, Ziel, Beginndatum, ggf. Sitzplätze und Preis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Mitfahrer können Fahrer und Fahrten suche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ahrer können Fahrten eingeben und Mitfahrer suchen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ntaktaufnahme zwischen den Fahrern/Mitfahrern muss möglich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uche und Anzeige von Fahrten soll unter Eingabe eines bestimmten Umkreises erfolg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Bewertung von Fahrern durch Sterne und Freitex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42:23Z</dcterms:created>
  <dc:creator>Andrea</dc:creator>
  <dc:description/>
  <dc:language>en-US</dc:language>
  <cp:lastModifiedBy>adimitro</cp:lastModifiedBy>
  <dcterms:modified xsi:type="dcterms:W3CDTF">2011-04-08T19:09:43Z</dcterms:modified>
  <cp:revision>12</cp:revision>
  <dc:subject/>
  <dc:title>Vorstellung erster Ergebnisse</dc:title>
</cp:coreProperties>
</file>